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C65-A068-40C6-A5BC-6F6C5FC1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258-D42C-4AB0-8B1C-2B8F8737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44D-A28C-43B2-9ABB-117170AA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5D1-A1D9-48BE-950B-8DE38C86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4202-402E-4954-B60C-1F2A37CC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1AF6-5BB6-4640-AFB7-7D95110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21C8-6D49-4866-943E-16CC8704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650A-12C0-4E8A-9FEF-FE7408C4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B21A-E4E3-4A9F-BE3E-4D1848C9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E3FE-9980-4EA6-9E0A-49A07257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CFFD-36EC-49C4-826B-DE13B9C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0D4-8D92-46A9-9100-04A22339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3745-009D-455F-88B7-7CBAE7E9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5982-2690-4C61-AA0F-A28A040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F89-C086-41A9-A063-CEFDE9C3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44B0-B1FB-471D-8462-8780B1AF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FC01-D49D-4635-8EAA-7C014507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902-E300-47D8-8FAE-8F90CC4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A95-CB4D-45C3-A3E0-9C15252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20C-4984-4D81-B9E9-ED87763D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900-1F63-4849-8245-37E8FC1C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2DB-0103-4C2A-A83D-D60C6E7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209-825A-490A-B192-FE6B98ED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119-A385-4562-ADEA-A460842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E9FC-F35A-438C-BF86-EDE41799CD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C579-01E1-4226-ABDD-C002D7444E6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mhurst.edu/~chm/vchembook/571lockkey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601280" y="304776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lain what is meant by a "lock and key“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chanism found in enzymes?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3733920" y="4114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256" h="21600">
                <a:moveTo>
                  <a:pt x="1162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256" h="21600">
                <a:moveTo>
                  <a:pt x="9051" y="8224"/>
                </a:moveTo>
                <a:lnTo>
                  <a:pt x="12916" y="8224"/>
                </a:lnTo>
                <a:lnTo>
                  <a:pt x="12916" y="15221"/>
                </a:lnTo>
                <a:lnTo>
                  <a:pt x="14204" y="15221"/>
                </a:lnTo>
                <a:lnTo>
                  <a:pt x="14204" y="16144"/>
                </a:lnTo>
                <a:lnTo>
                  <a:pt x="9051" y="16144"/>
                </a:lnTo>
                <a:lnTo>
                  <a:pt x="9051" y="15221"/>
                </a:lnTo>
                <a:lnTo>
                  <a:pt x="10340" y="15221"/>
                </a:lnTo>
                <a:lnTo>
                  <a:pt x="10340" y="9129"/>
                </a:lnTo>
                <a:lnTo>
                  <a:pt x="9051" y="912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23:48Z</dcterms:created>
  <dc:creator>PritchaJ</dc:creator>
  <dc:description/>
  <dc:language>en-US</dc:language>
  <cp:lastModifiedBy>PritchaJ</cp:lastModifiedBy>
  <dcterms:modified xsi:type="dcterms:W3CDTF">2011-06-01T13:26:28Z</dcterms:modified>
  <cp:revision>1</cp:revision>
  <dc:subject/>
  <dc:title>Slide 1</dc:title>
</cp:coreProperties>
</file>